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6A0-84D2-42C5-80EE-4C1177A0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7B1-C213-4D92-8D73-6287A889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100-73F1-43C7-B425-3A41558E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1B5-F077-46B7-8299-2BC903A7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815-46B8-4514-8CD8-8E319CAE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206-F6AD-4094-AA22-3BAD69D0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BE3-8470-4255-B09B-4281E52D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CCB-457F-4BCC-ACB5-46773085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42C-91D5-408F-B7BE-3AA0AC7C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C9D-D837-47C2-8FC6-B30EC40D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398-E755-4628-BB42-1BE089ED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2CA-812B-492F-BC71-09A65F43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DE1F-13CD-482A-9CAE-7436B4D47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0076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9900"/>
                </a:solidFill>
                <a:latin typeface="AlexsHand"/>
              </a:rPr>
              <a:t>En route pour une visite au Pic de Lary </a:t>
            </a:r>
            <a:br>
              <a:rPr sz="3200"/>
            </a:br>
            <a:r>
              <a:rPr b="0" i="1" lang="fr-FR" sz="3200" spc="-1" strike="noStrike">
                <a:solidFill>
                  <a:srgbClr val="ff9900"/>
                </a:solidFill>
                <a:latin typeface="AlexsHand"/>
              </a:rPr>
              <a:t>MPPM 29 Octobre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0085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00086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0087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0088" descr=""/>
          <p:cNvPicPr/>
          <p:nvPr/>
        </p:nvPicPr>
        <p:blipFill>
          <a:blip r:embed="rId2"/>
          <a:stretch/>
        </p:blipFill>
        <p:spPr>
          <a:xfrm>
            <a:off x="2538360" y="379440"/>
            <a:ext cx="40672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0089" descr=""/>
          <p:cNvPicPr/>
          <p:nvPr/>
        </p:nvPicPr>
        <p:blipFill>
          <a:blip r:embed="rId2"/>
          <a:stretch/>
        </p:blipFill>
        <p:spPr>
          <a:xfrm>
            <a:off x="2538360" y="379440"/>
            <a:ext cx="40672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00"/>
                </a:solidFill>
                <a:latin typeface="AlexsHand"/>
              </a:rPr>
              <a:t>Tours d’horizon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00090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0091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00"/>
                </a:solidFill>
                <a:latin typeface="AlexsHand"/>
              </a:rPr>
              <a:t>Nous y sommes, ravi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00092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lexsHand"/>
              </a:rPr>
              <a:t>Nourritures Terrestre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00093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lexsHand"/>
              </a:rPr>
              <a:t>réconf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00094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0077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lexsHand"/>
              </a:rPr>
              <a:t>Et par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00095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0096" descr=""/>
          <p:cNvPicPr/>
          <p:nvPr/>
        </p:nvPicPr>
        <p:blipFill>
          <a:blip r:embed="rId2"/>
          <a:stretch/>
        </p:blipFill>
        <p:spPr>
          <a:xfrm>
            <a:off x="2538360" y="379440"/>
            <a:ext cx="40672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0097" descr=""/>
          <p:cNvPicPr/>
          <p:nvPr/>
        </p:nvPicPr>
        <p:blipFill>
          <a:blip r:embed="rId2"/>
          <a:stretch/>
        </p:blipFill>
        <p:spPr>
          <a:xfrm>
            <a:off x="2514600" y="152280"/>
            <a:ext cx="4067280" cy="6097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594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lexsHand"/>
              </a:rPr>
              <a:t>Sur le retou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0098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0099" descr=""/>
          <p:cNvPicPr/>
          <p:nvPr/>
        </p:nvPicPr>
        <p:blipFill>
          <a:blip r:embed="rId2"/>
          <a:stretch/>
        </p:blipFill>
        <p:spPr>
          <a:xfrm>
            <a:off x="2514600" y="152280"/>
            <a:ext cx="4067280" cy="6097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90720" y="5943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lexsHand"/>
              </a:rPr>
              <a:t>On s ’attard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0100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0101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4067280" cy="6097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19920" y="228600"/>
            <a:ext cx="2743200" cy="66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lexsHand"/>
              </a:rPr>
              <a:t>Comme d ’habitude merci à ceux qui ont organisé la visite, et au soleil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0078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0079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0080" descr=""/>
          <p:cNvPicPr/>
          <p:nvPr/>
        </p:nvPicPr>
        <p:blipFill>
          <a:blip r:embed="rId2"/>
          <a:stretch/>
        </p:blipFill>
        <p:spPr>
          <a:xfrm>
            <a:off x="2538360" y="379440"/>
            <a:ext cx="40672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0081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0082" descr=""/>
          <p:cNvPicPr/>
          <p:nvPr/>
        </p:nvPicPr>
        <p:blipFill>
          <a:blip r:embed="rId2"/>
          <a:stretch/>
        </p:blipFill>
        <p:spPr>
          <a:xfrm>
            <a:off x="2538360" y="379440"/>
            <a:ext cx="40672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0083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0084" descr=""/>
          <p:cNvPicPr/>
          <p:nvPr/>
        </p:nvPicPr>
        <p:blipFill>
          <a:blip r:embed="rId2"/>
          <a:stretch/>
        </p:blipFill>
        <p:spPr>
          <a:xfrm>
            <a:off x="2538360" y="379440"/>
            <a:ext cx="40672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10:27:00Z</dcterms:created>
  <dc:creator>Mr  Claude Royere</dc:creator>
  <dc:description/>
  <dc:language>en-US</dc:language>
  <cp:lastModifiedBy>Royère</cp:lastModifiedBy>
  <dcterms:modified xsi:type="dcterms:W3CDTF">2005-04-29T19:02:41Z</dcterms:modified>
  <cp:revision>11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32896</vt:r8>
  </property>
  <property fmtid="{D5CDD505-2E9C-101B-9397-08002B2CF9AE}" pid="3" name="ButtonType">
    <vt:r8>2</vt:r8>
  </property>
  <property fmtid="{D5CDD505-2E9C-101B-9397-08002B2CF9AE}" pid="4" name="Compression">
    <vt:r8>75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laude.royere@club-internet.fr</vt:lpwstr>
  </property>
  <property fmtid="{D5CDD505-2E9C-101B-9397-08002B2CF9AE}" pid="11" name="NavBtnPos">
    <vt:r8>3</vt:r8>
  </property>
  <property fmtid="{D5CDD505-2E9C-101B-9397-08002B2CF9AE}" pid="12" name="Other">
    <vt:lpwstr>Claude et Marianne Royère</vt:lpwstr>
  </property>
  <property fmtid="{D5CDD505-2E9C-101B-9397-08002B2CF9AE}" pid="13" name="OutputDir">
    <vt:lpwstr>C:\WINDOWS\BUREAU\diapo MPPM\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65280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44703</vt:r8>
  </property>
</Properties>
</file>