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0EB-D50E-4904-BB1A-45F21807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7E57-CD81-4B42-BE52-1A084000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203-D19E-4AE4-ABAE-F2F8912C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9B21-7285-4468-92A8-109B3E05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0E2-6F24-453D-8118-7BE6CEBD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2A2-3FB3-4DAD-96C2-5DF6D773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F63-30DC-456E-875A-410D7D50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DEB-53D3-43B4-BEBC-67521927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DAEA-2074-4BFF-AE3F-9F0C71B5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E61-9515-4520-82CF-41417F5D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971-883D-4AA8-AF96-5324307D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1FC-483E-4040-9F44-BF068842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0DB6-DDD1-49C9-B4C5-5DCE89569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076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9900"/>
                </a:solidFill>
                <a:latin typeface="AlexsHand"/>
              </a:rPr>
              <a:t>En route pour une visite au Pic de Lary </a:t>
            </a:r>
            <a:br>
              <a:rPr sz="3200"/>
            </a:br>
            <a:r>
              <a:rPr b="0" i="1" lang="fr-FR" sz="3200" spc="-1" strike="noStrike">
                <a:solidFill>
                  <a:srgbClr val="ff9900"/>
                </a:solidFill>
                <a:latin typeface="AlexsHand"/>
              </a:rPr>
              <a:t>MPPM 29 Octobre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0085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00086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0087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00088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089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AlexsHand"/>
              </a:rPr>
              <a:t>Tours d’horizon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0090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00091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AlexsHand"/>
              </a:rPr>
              <a:t>Nous y sommes, ravi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00092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lexsHand"/>
              </a:rPr>
              <a:t>Nourritures Terrestre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00093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lexsHand"/>
              </a:rPr>
              <a:t>réconf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00094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0077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lexsHand"/>
              </a:rPr>
              <a:t>Et par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00095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0096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00097" descr=""/>
          <p:cNvPicPr/>
          <p:nvPr/>
        </p:nvPicPr>
        <p:blipFill>
          <a:blip r:embed="rId2"/>
          <a:stretch/>
        </p:blipFill>
        <p:spPr>
          <a:xfrm>
            <a:off x="2514600" y="152280"/>
            <a:ext cx="4067280" cy="6097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594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lexsHand"/>
              </a:rPr>
              <a:t>Sur le retou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00098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0099" descr=""/>
          <p:cNvPicPr/>
          <p:nvPr/>
        </p:nvPicPr>
        <p:blipFill>
          <a:blip r:embed="rId2"/>
          <a:stretch/>
        </p:blipFill>
        <p:spPr>
          <a:xfrm>
            <a:off x="2514600" y="152280"/>
            <a:ext cx="4067280" cy="609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90720" y="5943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lexsHand"/>
              </a:rPr>
              <a:t>On s ’attard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0100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00101" descr=""/>
          <p:cNvPicPr/>
          <p:nvPr/>
        </p:nvPicPr>
        <p:blipFill>
          <a:blip r:embed="rId2"/>
          <a:stretch/>
        </p:blipFill>
        <p:spPr>
          <a:xfrm>
            <a:off x="1371600" y="304920"/>
            <a:ext cx="4067280" cy="6097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19920" y="228600"/>
            <a:ext cx="274320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lexsHand"/>
              </a:rPr>
              <a:t>Comme d ’habitude merci à ceux qui ont organisé la visite, et au soleil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0078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0079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0080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0081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0082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0083" descr=""/>
          <p:cNvPicPr/>
          <p:nvPr/>
        </p:nvPicPr>
        <p:blipFill>
          <a:blip r:embed="rId2"/>
          <a:stretch/>
        </p:blipFill>
        <p:spPr>
          <a:xfrm>
            <a:off x="1522440" y="1395360"/>
            <a:ext cx="60976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0084" descr=""/>
          <p:cNvPicPr/>
          <p:nvPr/>
        </p:nvPicPr>
        <p:blipFill>
          <a:blip r:embed="rId2"/>
          <a:stretch/>
        </p:blipFill>
        <p:spPr>
          <a:xfrm>
            <a:off x="2538360" y="379440"/>
            <a:ext cx="406728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0:27:00Z</dcterms:created>
  <dc:creator>Mr  Claude Royere</dc:creator>
  <dc:description/>
  <dc:language>en-US</dc:language>
  <cp:lastModifiedBy>Royère</cp:lastModifiedBy>
  <dcterms:modified xsi:type="dcterms:W3CDTF">2005-04-29T19:02:41Z</dcterms:modified>
  <cp:revision>11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32896</vt:r8>
  </property>
  <property fmtid="{D5CDD505-2E9C-101B-9397-08002B2CF9AE}" pid="3" name="ButtonType">
    <vt:r8>2</vt:r8>
  </property>
  <property fmtid="{D5CDD505-2E9C-101B-9397-08002B2CF9AE}" pid="4" name="Compression">
    <vt:r8>75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laude.royere@club-internet.fr</vt:lpwstr>
  </property>
  <property fmtid="{D5CDD505-2E9C-101B-9397-08002B2CF9AE}" pid="11" name="NavBtnPos">
    <vt:r8>3</vt:r8>
  </property>
  <property fmtid="{D5CDD505-2E9C-101B-9397-08002B2CF9AE}" pid="12" name="Other">
    <vt:lpwstr>Claude et Marianne Royère</vt:lpwstr>
  </property>
  <property fmtid="{D5CDD505-2E9C-101B-9397-08002B2CF9AE}" pid="13" name="OutputDir">
    <vt:lpwstr>C:\WINDOWS\BUREAU\diapo MPPM\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65280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44703</vt:r8>
  </property>
</Properties>
</file>